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0E1-013B-43F7-920C-C439B90B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4E6-D385-41C6-8B7F-A639CEB1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2CB9-7CD3-46E9-9D33-1A02556D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8E1E-E862-41C7-9D13-AFD59553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AF24-7685-461F-9853-AAC607DA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DAF8-8E16-4C95-B942-2188270E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1993-94DE-4DC0-8DBB-F7078D9C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FA52-441C-4727-B0D7-FF133730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D6D8-86DB-4274-ABA0-A5BC8A24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CD61-05F6-4A79-B88D-87C0B4B0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E31E-CB33-4EA6-BE68-08354FA0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EF60-2A9D-4A4D-A3CF-C6A632AB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29D3-0D05-4FBE-BEDD-56964331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9AA9-8553-4969-A534-B79E97E6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1096-822A-49FB-80C5-7B68DD7D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813B-9A7D-4F91-AB44-68F1FCB1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BA57-A307-4A7A-A4AE-74FE5D8F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A70F9-6D12-4AA4-9607-9AD2E207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5D8B3-9262-490A-8B6B-C1BFB36F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8DB47-336E-4220-AA2E-D582706C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7A30A-EC6A-4F3B-9C62-EC1EA032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B1DD4-6C4D-43DD-88A0-5CA593AB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8BC-3CFF-414F-89E3-DB33E0E2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0C82C-9513-4546-8AAB-8D4C6593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2571C-130A-42D3-A9CD-FA14F36F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553A1-7D86-4594-9A0C-F77CF324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F24CA-49C0-4003-88D8-682A4CF9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767A5-30C4-4515-AF2C-59C6460E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0F1CD-8562-4CC8-8A54-B5C70A73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13E4A-933B-4472-8C65-584E7AF1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A9AE7-8185-4A58-8A52-B497F0D9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AC395-925F-4502-8CF4-2D5EB872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35465-4FA6-48CA-851A-73A60A4A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9F3-5C37-4147-A749-C7B4ACB3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17F4B-9E38-476E-A347-30E82555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F0832-6548-4AAC-B4F4-2FA5F0D0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D1398-8755-4BC8-8A0E-CF328817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268AA-8250-4749-9E78-A4FD105D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C3949-C956-4114-8C93-51297555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191EC-9F3C-4BFA-9ED2-2A5A0807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BA2C8-5CC8-4F43-B3FE-463D2281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0A8C9-5E11-42EF-992D-81BBDD56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87C06-911E-489D-BAE5-D5101599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87E8A-9116-4BA9-A036-C54E422A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330-6C3E-402F-9F20-C40FC20D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07072-DA6B-4099-8B71-89B3D5FF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12A3D-0EC1-4800-A20F-A7B3E415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9B860-7997-4C87-ADEB-F528C230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0D205-28B7-4135-9F2E-3FAF13B5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4317E-C10A-4F76-95E8-57D9A2E0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A0DFA-6066-4987-9B3E-85BBA9E1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327D4-F4CD-47A2-9104-9D19EEB4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0064F-209A-4285-BE15-5DB09626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C9F9D-E1BC-4C21-A12C-ABFD7C43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EA381-28F8-4835-83E4-DD3F13F6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06AD-00A6-442C-B0E5-66C3AD44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D7B0B-FAE7-4A04-9B96-750F2F28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EE0C5-FA0A-4906-BC38-7AF97CF0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056A7-1031-43E2-AF58-F9F12CF6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11EDC-EFF5-43E3-A5EB-9CA9DE96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72FF7-77F6-471F-8244-72DC05EB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C8A51-4151-4F30-BED5-7C1365CE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462C3-5B40-420C-B82E-D253A8E7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6A5CA-A13F-4B4A-B110-BD70A55C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B2AF4-90DC-480F-A12E-F45E799B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FAF3F-571E-4F0E-84DA-8724B2D7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90E-8E4D-4F94-8F89-83DD9884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98DF7-A5C2-48EA-893F-58205BCE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2AF43-E915-48D9-B78C-5F1642FE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7B01A-65B0-4993-A1D1-9CA6B217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433F7-4228-4110-9322-A242AB29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9BCA8-97BA-4878-84A3-405DA1D7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4F07E-E658-46C0-BDB2-290447CB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46B19-1F73-4F95-AC98-1232DA3F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85215-B3FB-495C-919C-27D9997A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526E6-1D80-46B4-8625-8D8867F2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64565-C2E9-4D30-9A06-29D17879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55E-581C-4FE2-8FE9-919C9EFC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7BB2C-42BC-4B16-8F79-77AEBEB6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CC5A5-2B8F-4746-8E7F-F9806F21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17E8E-CC38-45B6-BA8A-F171C989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5A6C5-27C3-46EA-B60F-5B685C71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5272E-F867-4AC2-A49B-8B5E0367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FC3D-BAEC-4B68-A432-25AE9C63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57CC-D7AE-4AFA-8520-DD46EF6AE0C9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0021-50D1-455C-B9A1-4EAE2FCFBB8A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D2F2-3FC7-4EAE-8E4A-B789A19F7F55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DAEE-7A6A-42D9-A267-BD4E614D7B7C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5D93-3772-4BAC-B857-EBAE16211856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A87E-516D-4425-B76E-256F4D51AE57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CF23-9D53-4D06-A335-230C4440A218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3ea9"/>
                </a:solidFill>
                <a:latin typeface="Corbel"/>
              </a:rPr>
              <a:t>МАТЕМАТИКА</a:t>
            </a:r>
            <a:endParaRPr b="0" lang="en-US" sz="48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omic Sans MS"/>
              </a:rPr>
              <a:t>7  ЧУДЕС СВЕТ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rbel"/>
              </a:rPr>
              <a:t>Колосс Родосский</a:t>
            </a:r>
            <a:endParaRPr b="0" lang="en-US" sz="4400" spc="-1" strike="noStrike">
              <a:solidFill>
                <a:srgbClr val="69666e"/>
              </a:solidFill>
              <a:latin typeface="Corbel"/>
            </a:endParaRPr>
          </a:p>
        </p:txBody>
      </p:sp>
      <p:pic>
        <p:nvPicPr>
          <p:cNvPr id="338" name="Picture 2" descr="C:\Documents and Settings\Дом\Рабочий стол\7чудес света\main1.jpg"/>
          <p:cNvPicPr/>
          <p:nvPr/>
        </p:nvPicPr>
        <p:blipFill>
          <a:blip r:embed="rId1"/>
          <a:stretch/>
        </p:blipFill>
        <p:spPr>
          <a:xfrm>
            <a:off x="3000240" y="1500120"/>
            <a:ext cx="37864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rbel"/>
              </a:rPr>
              <a:t>Гробница царю Мавсолу</a:t>
            </a:r>
            <a:endParaRPr b="0" lang="en-US" sz="4400" spc="-1" strike="noStrike">
              <a:solidFill>
                <a:srgbClr val="69666e"/>
              </a:solidFill>
              <a:latin typeface="Corbel"/>
            </a:endParaRPr>
          </a:p>
        </p:txBody>
      </p:sp>
      <p:pic>
        <p:nvPicPr>
          <p:cNvPr id="340" name="Picture 2" descr="C:\Documents and Settings\Дом\Рабочий стол\7чудес света\main2.jpg"/>
          <p:cNvPicPr/>
          <p:nvPr/>
        </p:nvPicPr>
        <p:blipFill>
          <a:blip r:embed="rId1"/>
          <a:stretch/>
        </p:blipFill>
        <p:spPr>
          <a:xfrm>
            <a:off x="2928960" y="1714680"/>
            <a:ext cx="37861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rbel"/>
              </a:rPr>
              <a:t>Маяк на острове Фарос</a:t>
            </a:r>
            <a:endParaRPr b="0" lang="en-US" sz="4400" spc="-1" strike="noStrike">
              <a:solidFill>
                <a:srgbClr val="69666e"/>
              </a:solidFill>
              <a:latin typeface="Corbel"/>
            </a:endParaRPr>
          </a:p>
        </p:txBody>
      </p:sp>
      <p:pic>
        <p:nvPicPr>
          <p:cNvPr id="342" name="Picture 2" descr="C:\Documents and Settings\Дом\Рабочий стол\7чудес света\main3.jpg"/>
          <p:cNvPicPr/>
          <p:nvPr/>
        </p:nvPicPr>
        <p:blipFill>
          <a:blip r:embed="rId1"/>
          <a:stretch/>
        </p:blipFill>
        <p:spPr>
          <a:xfrm>
            <a:off x="3143160" y="1428840"/>
            <a:ext cx="35006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7 чудес света</a:t>
            </a:r>
            <a:endParaRPr b="0" lang="en-US" sz="6000" spc="-1" strike="noStrike">
              <a:solidFill>
                <a:srgbClr val="69666e"/>
              </a:solidFill>
              <a:latin typeface="Corbel"/>
            </a:endParaRPr>
          </a:p>
        </p:txBody>
      </p:sp>
      <p:pic>
        <p:nvPicPr>
          <p:cNvPr id="344" name="Picture 2" descr="C:\Documents and Settings\Дом\Рабочий стол\7чудес света\SevenWondersOfTheWorld.jpg"/>
          <p:cNvPicPr/>
          <p:nvPr/>
        </p:nvPicPr>
        <p:blipFill>
          <a:blip r:embed="rId1"/>
          <a:stretch/>
        </p:blipFill>
        <p:spPr>
          <a:xfrm>
            <a:off x="2643120" y="1428840"/>
            <a:ext cx="45007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e4e99"/>
                </a:solidFill>
                <a:latin typeface="Corbel"/>
              </a:rPr>
              <a:t>Домашнее задание.</a:t>
            </a:r>
            <a:endParaRPr b="0" lang="en-US" sz="48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№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817 (2, 3 столбики), № 819 (2)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434960" y="785880"/>
            <a:ext cx="749952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mic Sans MS"/>
              </a:rPr>
              <a:t>Спасибо!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mic Sans MS"/>
              </a:rPr>
              <a:t>Крепких знаний и отличных оценок!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cc08"/>
                </a:solidFill>
                <a:latin typeface="Calibri"/>
              </a:rPr>
              <a:t>Умножение вида </a:t>
            </a:r>
            <a:br>
              <a:rPr sz="4400"/>
            </a:br>
            <a:r>
              <a:rPr b="0" lang="ru-RU" sz="4400" spc="-1" strike="noStrike">
                <a:solidFill>
                  <a:srgbClr val="40cc08"/>
                </a:solidFill>
                <a:latin typeface="Calibri"/>
              </a:rPr>
              <a:t>327·406, 614·280</a:t>
            </a:r>
            <a:endParaRPr b="0" lang="en-US" sz="44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643040" y="2571480"/>
            <a:ext cx="729144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омство с новыми приемами вычислен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ение новых приемов при решении задач и пример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5bb0"/>
                </a:solidFill>
                <a:latin typeface="Corbel"/>
              </a:rPr>
              <a:t>Чистописание</a:t>
            </a:r>
            <a:endParaRPr b="0" lang="en-US" sz="48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7    7    7       7 + 0             7 ·  1      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7 ·  0             7 +  1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5bb0"/>
                </a:solidFill>
                <a:latin typeface="Calibri"/>
              </a:rPr>
              <a:t>Устный счет</a:t>
            </a:r>
            <a:endParaRPr b="0" lang="en-US" sz="48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920"/>
            <a:ext cx="749952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70 000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оугольник 3"/>
          <p:cNvSpPr/>
          <p:nvPr/>
        </p:nvSpPr>
        <p:spPr>
          <a:xfrm>
            <a:off x="1721160" y="2857680"/>
            <a:ext cx="144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7 070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оугольник 4"/>
          <p:cNvSpPr/>
          <p:nvPr/>
        </p:nvSpPr>
        <p:spPr>
          <a:xfrm>
            <a:off x="1720080" y="4429080"/>
            <a:ext cx="10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700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rbel"/>
              </a:rPr>
              <a:t>ПИРАМИДЫ</a:t>
            </a:r>
            <a:endParaRPr b="0" lang="en-US" sz="4800" spc="-1" strike="noStrike">
              <a:solidFill>
                <a:srgbClr val="69666e"/>
              </a:solidFill>
              <a:latin typeface="Corbel"/>
            </a:endParaRPr>
          </a:p>
        </p:txBody>
      </p:sp>
      <p:pic>
        <p:nvPicPr>
          <p:cNvPr id="329" name="Picture 2" descr="C:\Documents and Settings\Дом\Рабочий стол\7чудес света\main4.jpg"/>
          <p:cNvPicPr/>
          <p:nvPr/>
        </p:nvPicPr>
        <p:blipFill>
          <a:blip r:embed="rId1"/>
          <a:stretch/>
        </p:blipFill>
        <p:spPr>
          <a:xfrm>
            <a:off x="1000080" y="1428840"/>
            <a:ext cx="81439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499760" y="999720"/>
            <a:ext cx="74343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семи пядей во лбу;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семимильными шагами;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семь  верст до небес;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за семь верст киселя хлебать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rbel"/>
              </a:rPr>
              <a:t>Висячие сады Семирамиды</a:t>
            </a:r>
            <a:endParaRPr b="0" lang="en-US" sz="4400" spc="-1" strike="noStrike">
              <a:solidFill>
                <a:srgbClr val="69666e"/>
              </a:solidFill>
              <a:latin typeface="Corbel"/>
            </a:endParaRPr>
          </a:p>
        </p:txBody>
      </p:sp>
      <p:pic>
        <p:nvPicPr>
          <p:cNvPr id="332" name="Picture 2" descr="C:\Documents and Settings\Дом\Рабочий стол\7чудес света\main5.jpg"/>
          <p:cNvPicPr/>
          <p:nvPr/>
        </p:nvPicPr>
        <p:blipFill>
          <a:blip r:embed="rId1"/>
          <a:stretch/>
        </p:blipFill>
        <p:spPr>
          <a:xfrm>
            <a:off x="1000080" y="1428840"/>
            <a:ext cx="81439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rbel"/>
              </a:rPr>
              <a:t>Храм Артемиды</a:t>
            </a:r>
            <a:endParaRPr b="0" lang="en-US" sz="4400" spc="-1" strike="noStrike">
              <a:solidFill>
                <a:srgbClr val="69666e"/>
              </a:solidFill>
              <a:latin typeface="Corbel"/>
            </a:endParaRPr>
          </a:p>
        </p:txBody>
      </p:sp>
      <p:pic>
        <p:nvPicPr>
          <p:cNvPr id="334" name="Picture 2" descr="C:\Documents and Settings\Дом\Рабочий стол\7чудес света\main.jpg"/>
          <p:cNvPicPr/>
          <p:nvPr/>
        </p:nvPicPr>
        <p:blipFill>
          <a:blip r:embed="rId1"/>
          <a:stretch/>
        </p:blipFill>
        <p:spPr>
          <a:xfrm>
            <a:off x="1000080" y="1714680"/>
            <a:ext cx="81439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rbel"/>
              </a:rPr>
              <a:t>Зевс Олимпийский</a:t>
            </a:r>
            <a:endParaRPr b="0" lang="en-US" sz="4400" spc="-1" strike="noStrike">
              <a:solidFill>
                <a:srgbClr val="69666e"/>
              </a:solidFill>
              <a:latin typeface="Corbel"/>
            </a:endParaRPr>
          </a:p>
        </p:txBody>
      </p:sp>
      <p:pic>
        <p:nvPicPr>
          <p:cNvPr id="336" name="Picture 2" descr="C:\Documents and Settings\Дом\Рабочий стол\7чудес света\main6.jpg"/>
          <p:cNvPicPr/>
          <p:nvPr/>
        </p:nvPicPr>
        <p:blipFill>
          <a:blip r:embed="rId1"/>
          <a:stretch/>
        </p:blipFill>
        <p:spPr>
          <a:xfrm>
            <a:off x="2571840" y="1500120"/>
            <a:ext cx="4857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2:17:27Z</dcterms:created>
  <dc:creator>Дом</dc:creator>
  <dc:description/>
  <dc:language>en-US</dc:language>
  <cp:lastModifiedBy>Дом</cp:lastModifiedBy>
  <dcterms:modified xsi:type="dcterms:W3CDTF">2010-11-30T23:24:52Z</dcterms:modified>
  <cp:revision>7</cp:revision>
  <dc:subject/>
  <dc:title>МАТЕМАТИКА</dc:title>
</cp:coreProperties>
</file>