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4D7D-978D-4279-851A-B08CCC3C40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0" y="-11457000"/>
            <a:ext cx="1440" cy="2430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0" y="-11457000"/>
            <a:ext cx="1440" cy="2430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0" y="-11457000"/>
            <a:ext cx="1440" cy="2430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-11457000"/>
            <a:ext cx="1440" cy="2430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8CD-CC76-4B07-90B7-C227656E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8B8-5A7C-48ED-8B2E-52CE4640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1A7-4D32-48F8-B952-36011B13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F04-B76E-4813-8059-9F08FBB5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DC22-15D9-419C-9020-9F3C4CA0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49EE-20A5-45D1-A980-DAB89510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9D83-11D8-42A7-87A5-E73D9961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B0DF-2B7D-4F0E-9A11-326AE256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D9B2-5AA7-410F-9528-29CE5612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1595-6D3C-47CB-B4A5-80F7F6DD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4F91-7B9E-4A26-BCDA-36894E1B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CE3-D262-423F-A0C1-A347FBAE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1CB6-3408-459F-8C0E-0BDA61BE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78F3-5CD6-46CD-A10F-A5BCAEB6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E593-B9FD-40BB-A72F-FB9E8D11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C7FD-E851-4FB4-8A31-1054D692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5912-9A15-4B67-8AC8-745958DF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44F-9E18-4D5D-B837-E2239A9A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657-D7FE-4CD6-8739-61922210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047-EEFC-421F-A080-F4D8867A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F92-A925-478B-82B3-B55278EA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BBB-7C20-47AD-8598-A99DA02B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948-4619-4831-8CBD-EB459293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624-4A7B-456F-ACBE-951AB87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30CE-D4A3-4101-8F74-F3E3607EA3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89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472F-71DD-4780-8E8B-30599B06C05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ервый зимний снежок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Белым пухом летит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ервый лёгкий мороз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еселит и бодри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11280" y="1484280"/>
            <a:ext cx="4608720" cy="13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Monotype Corsiv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7000"/>
              </a:lnSpc>
              <a:spcBef>
                <a:spcPts val="1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1708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rcRect l="0" t="0" r="782" b="16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785880" y="1500120"/>
            <a:ext cx="5010120" cy="21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Прямоугольник 9"/>
          <p:cNvSpPr/>
          <p:nvPr/>
        </p:nvSpPr>
        <p:spPr>
          <a:xfrm>
            <a:off x="714240" y="357120"/>
            <a:ext cx="8072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Unicode MS"/>
              </a:rPr>
              <a:t>    </a:t>
            </a:r>
            <a:r>
              <a:rPr b="1" lang="ru-RU" sz="4800" spc="-1" strike="noStrike">
                <a:solidFill>
                  <a:srgbClr val="ffff00"/>
                </a:solidFill>
                <a:latin typeface="Arial Unicode MS"/>
              </a:rPr>
              <a:t>Домашнее задание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Unicode MS"/>
              </a:rPr>
              <a:t>2 класс. Упражнение 172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Unicode MS"/>
              </a:rPr>
              <a:t>3 класс. Упражнение 278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1708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rcRect l="0" t="0" r="782" b="16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6"/>
          <p:cNvSpPr txBox="1"/>
          <p:nvPr/>
        </p:nvSpPr>
        <p:spPr>
          <a:xfrm>
            <a:off x="785880" y="1500120"/>
            <a:ext cx="5010120" cy="21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714240" y="1928880"/>
            <a:ext cx="66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Unicode MS"/>
              </a:rPr>
              <a:t>    </a:t>
            </a:r>
            <a:r>
              <a:rPr b="1" lang="ru-RU" sz="4800" spc="-1" strike="noStrike">
                <a:solidFill>
                  <a:srgbClr val="ffff00"/>
                </a:solidFill>
                <a:latin typeface="Arial Unicode MS"/>
              </a:rPr>
              <a:t>Успехов в учёб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Unicode MS"/>
              </a:rPr>
              <a:t>и крепких знаний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30796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06404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4"/>
          <p:cNvSpPr/>
          <p:nvPr/>
        </p:nvSpPr>
        <p:spPr>
          <a:xfrm>
            <a:off x="1116000" y="476280"/>
            <a:ext cx="6913440" cy="5545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411280" y="1484280"/>
            <a:ext cx="460872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66"/>
                </a:solidFill>
                <a:latin typeface="Calibri"/>
              </a:rPr>
              <a:t>Дорогие ребят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Calibri"/>
              </a:rPr>
              <a:t>Сегодня мы изучаем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Calibri"/>
              </a:rPr>
              <a:t>1. Способ проверки парных согласных на конце сл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Calibri"/>
              </a:rPr>
              <a:t>2. Правописание безударных гласных в корне с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Calibri"/>
              </a:rPr>
              <a:t>Любуемся </a:t>
            </a:r>
            <a:r>
              <a:rPr b="1" i="1" lang="en-GB" sz="2600" spc="-1" strike="noStrike">
                <a:solidFill>
                  <a:srgbClr val="000066"/>
                </a:solidFill>
                <a:latin typeface="Calibri"/>
              </a:rPr>
              <a:t>красот</a:t>
            </a:r>
            <a:r>
              <a:rPr b="1" i="1" lang="ru-RU" sz="2600" spc="-1" strike="noStrike">
                <a:solidFill>
                  <a:srgbClr val="000066"/>
                </a:solidFill>
                <a:latin typeface="Calibri"/>
              </a:rPr>
              <a:t>ой  </a:t>
            </a:r>
            <a:r>
              <a:rPr b="1" i="1" lang="en-GB" sz="2600" spc="-1" strike="noStrike">
                <a:solidFill>
                  <a:srgbClr val="000066"/>
                </a:solidFill>
                <a:latin typeface="Calibri"/>
              </a:rPr>
              <a:t>зимней природ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Calibri"/>
              </a:rPr>
              <a:t>Проявляем творческую фантази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Monotype Corsiv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7000"/>
              </a:lnSpc>
              <a:spcBef>
                <a:spcPts val="1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2843280" y="4869000"/>
            <a:ext cx="366696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1708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rcRect l="0" t="0" r="782" b="16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785880" y="1500120"/>
            <a:ext cx="5010120" cy="21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714240" y="357120"/>
            <a:ext cx="61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Unicode MS"/>
              </a:rPr>
              <a:t>    </a:t>
            </a:r>
            <a:r>
              <a:rPr b="1" lang="ru-RU" sz="4800" spc="-1" strike="noStrike">
                <a:solidFill>
                  <a:srgbClr val="ffff00"/>
                </a:solidFill>
                <a:latin typeface="Arial Unicode MS"/>
              </a:rPr>
              <a:t>Чистопис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14360" y="500040"/>
            <a:ext cx="607212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          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ЛОВАРЬ.</a:t>
            </a: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асс..яние,  в..гон, ст..р..жить, р..сунок, п..сьмо, ..птека, кв..ртира, выпр..мить, </a:t>
            </a:r>
            <a:r>
              <a:rPr b="1" lang="ru-RU" sz="4300" spc="-1" strike="noStrike">
                <a:solidFill>
                  <a:srgbClr val="002060"/>
                </a:solidFill>
                <a:latin typeface="Calibri"/>
              </a:rPr>
              <a:t>зал..вать, ск..листый,        пр..рода,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м..сной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14360" y="500040"/>
            <a:ext cx="607212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          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ЛОВАРЬ.</a:t>
            </a: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асстояние     вагон сторожить      рисунок письмо           аптека выпрямить    квартира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300" spc="-1" strike="noStrike">
                <a:solidFill>
                  <a:srgbClr val="002060"/>
                </a:solidFill>
                <a:latin typeface="Calibri"/>
              </a:rPr>
              <a:t>заливать         природа </a:t>
            </a:r>
            <a:br>
              <a:rPr sz="43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калистый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мясной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Дом\Рабочий стол\зима 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7180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омментированное письм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1708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 rot="5400000">
            <a:off x="3614760" y="-1157400"/>
            <a:ext cx="3644640" cy="6337440"/>
          </a:xfrm>
          <a:prstGeom prst="cloudCallout">
            <a:avLst>
              <a:gd name="adj1" fmla="val 421"/>
              <a:gd name="adj2" fmla="val 526987648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11640" y="404640"/>
            <a:ext cx="3816360" cy="30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Bookman Old Style"/>
              </a:rPr>
              <a:t>Вот подул ветерок, холодом пахнул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Bookman Old Style"/>
              </a:rPr>
              <a:t>Словно бабушка – зима рукавом махну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Bookman Old Style"/>
              </a:rPr>
              <a:t>Полетели с высоты белые </a:t>
            </a:r>
            <a:r>
              <a:rPr b="1" lang="ru-RU" sz="2000" spc="-1" strike="noStrike">
                <a:solidFill>
                  <a:srgbClr val="0033cc"/>
                </a:solidFill>
                <a:latin typeface="Bookman Old Style"/>
              </a:rPr>
              <a:t>пуш</a:t>
            </a:r>
            <a:r>
              <a:rPr b="1" lang="en-GB" sz="2000" spc="-1" strike="noStrike">
                <a:solidFill>
                  <a:srgbClr val="0033cc"/>
                </a:solidFill>
                <a:latin typeface="Bookman Old Style"/>
              </a:rPr>
              <a:t>и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Bookman Old Style"/>
              </a:rPr>
              <a:t>На деревья и кусты сыплются снежи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Дом\Рабочий стол\Nature16_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312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Что мы знаем о слова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Дом\Рабочий стол\199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ворческая рабо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714240" y="1500120"/>
            <a:ext cx="7000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ервый зимний снежок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Белым пухом летит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ервый лёгкий мороз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еселит и бодри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20:32:35Z</dcterms:created>
  <dc:creator>Дом</dc:creator>
  <dc:description/>
  <dc:language>en-US</dc:language>
  <cp:lastModifiedBy>Дом</cp:lastModifiedBy>
  <dcterms:modified xsi:type="dcterms:W3CDTF">2010-12-09T22:49:48Z</dcterms:modified>
  <cp:revision>13</cp:revision>
  <dc:subject/>
  <dc:title>Слайд 1</dc:title>
</cp:coreProperties>
</file>