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866-4418-4A3A-BC7E-63744C8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6AB-B7C5-45AB-87BF-542EA30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F2E-6919-4C8A-B224-8985DE7C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530-E42C-481C-B523-BA1F6F1A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768-F9F8-4B6C-BE7D-0CCF26F2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58D-D267-4F6F-9C30-F6D1285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237-5A5B-4E7F-B7C2-86DE180E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BEB-5B3F-42BC-ABCA-71384BDE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BA8-9305-468E-9F77-E53FA5B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AC7-33F9-4D3B-A0A6-2871311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83B-5297-418C-A406-C0DE6C2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3C2-68C1-49E7-B8FE-AE800157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AC6C-1DF9-45C1-B055-B3E6492A5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авописание безударных гласных в корне слова.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роверяемые и проверочные слов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ижний колонтитул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 99, правило, упр. 23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ижний колонтитул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спехов в учёбе и крепких знани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ижний колонтитул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истописание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214280" y="12142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   о   у    ы    е    ю    я    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5572080" y="12142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ё     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1214280" y="2786040"/>
            <a:ext cx="714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1)   а      о      у      э      ы                  я       ю      и       ё      е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2)   а     о       у     э     ы     и             я      ю        е      ё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3)   а     о      и      е     я                   у     э      ю     ы     ё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истописание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1214280" y="12142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   о   у    ы    е    ю    я    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5572080" y="12142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ё     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1214280" y="2786040"/>
            <a:ext cx="714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1)   а      о      у      э      ы                  я       ю      и       ё      е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2)   а     о       у     э     ы     и             я      ю        е      ё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)   а     о      и      е     я                   у     э      ю     ы     ё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истописание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214280" y="121428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   о   у    ы    е    ю    я    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5572080" y="12142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ё     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1214280" y="2786040"/>
            <a:ext cx="714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1)   а      о      у      э      ы                  я       ю      и       ё      е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2)   а     о       у     э     ы     и             я      ю        е      ё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3)   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Monotype Corsiva"/>
              </a:rPr>
              <a:t>а     о      и      е     я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у     э      ю     ы     ё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мментированное письмо.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1"/>
          <p:cNvSpPr/>
          <p:nvPr/>
        </p:nvSpPr>
        <p:spPr>
          <a:xfrm>
            <a:off x="1785960" y="2214720"/>
            <a:ext cx="43578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- согл., гл., тв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согл., зв., тв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глас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согл., гл., тв. 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глас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согл., зв., мяг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согл., гл., мяг.</a:t>
            </a:r>
            <a:br>
              <a:rPr sz="2400"/>
            </a:b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   - гл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ловарь.</a:t>
            </a:r>
            <a:br>
              <a:rPr sz="4800"/>
            </a:br>
            <a:br>
              <a:rPr sz="4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..жёлый молоток, в..здушный к..рабль, н..ч..лась к..сьба, ж..лтый п..м..дор, ни..кая ка..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езударные гласные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1071720" y="2357280"/>
            <a:ext cx="76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роверяемые          проверяем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714840" y="3429000"/>
            <a:ext cx="4714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.         .         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Дуга 11"/>
          <p:cNvSpPr/>
          <p:nvPr/>
        </p:nvSpPr>
        <p:spPr>
          <a:xfrm>
            <a:off x="4143240" y="3571920"/>
            <a:ext cx="914400" cy="120024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>
            <a:off x="6000840" y="3571920"/>
            <a:ext cx="428400" cy="357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 flipH="1">
            <a:off x="5571720" y="3571920"/>
            <a:ext cx="428760" cy="357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1"/>
          <p:cNvSpPr/>
          <p:nvPr/>
        </p:nvSpPr>
        <p:spPr>
          <a:xfrm>
            <a:off x="7286760" y="3571920"/>
            <a:ext cx="64296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25"/>
          <p:cNvSpPr/>
          <p:nvPr/>
        </p:nvSpPr>
        <p:spPr>
          <a:xfrm>
            <a:off x="7929720" y="3571920"/>
            <a:ext cx="0" cy="287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0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1430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бъясните написание слов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..ход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   коз..чка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   к..ток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   м..лыш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   мал..нький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      п..тё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ижний колонтитул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52156"/>
                  </a:srgbClr>
                </a:gs>
                <a:gs pos="100000">
                  <a:srgbClr val="4221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755640" y="0"/>
              <a:ext cx="8388360" cy="6858000"/>
            </a:xfrm>
            <a:prstGeom prst="rect">
              <a:avLst/>
            </a:prstGeom>
            <a:gradFill rotWithShape="0">
              <a:gsLst>
                <a:gs pos="0">
                  <a:srgbClr val="cc66ff">
                    <a:alpha val="10196"/>
                  </a:srgbClr>
                </a:gs>
                <a:gs pos="100000">
                  <a:srgbClr val="7a3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5" descr="открытка32"/>
            <p:cNvPicPr/>
            <p:nvPr/>
          </p:nvPicPr>
          <p:blipFill>
            <a:blip r:embed="rId1"/>
            <a:srcRect l="0" t="4776" r="0" b="90451"/>
            <a:stretch/>
          </p:blipFill>
          <p:spPr>
            <a:xfrm>
              <a:off x="900000" y="6093000"/>
              <a:ext cx="80391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я могу рассказать о слов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>
            <a:off x="3786120" y="557208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2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0:47:34Z</dcterms:created>
  <dc:creator>Дом</dc:creator>
  <dc:description/>
  <dc:language>en-US</dc:language>
  <cp:lastModifiedBy>Дом</cp:lastModifiedBy>
  <dcterms:modified xsi:type="dcterms:W3CDTF">2010-11-24T22:34:43Z</dcterms:modified>
  <cp:revision>10</cp:revision>
  <dc:subject/>
  <dc:title>Правописание безударных гласных в корне слова.  Проверяемые и проверочные слова.</dc:title>
</cp:coreProperties>
</file>